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9F9-EA1D-4A55-935E-F0047958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38A-10F8-4D0F-99A5-BDFF2482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B10-C183-46A7-A231-C17122FC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75D-6B44-4D02-9077-B42FBD5F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BE2-5757-4762-A5D7-89E8EA9E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324-9926-45EE-B8C8-FD860D7A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265-0175-44F0-8744-7640CE94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B82-99F8-4BB0-B043-5038AC63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F26-A758-4AAE-8EBC-94B74AD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506-12E2-4DCB-A4CB-6A84DCFA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1E6-1ECA-4ACC-BB8A-5A7262F9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2CF-4727-4D73-BDCA-66FDB45D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55E3-85C2-4064-A530-BC9D5F9C5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David”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avid’s Ice Cream will make you cool when you go to school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92200"/>
            <a:ext cx="2138400" cy="389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0" y="762120"/>
            <a:ext cx="23605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